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4E5A-E559-463B-ADDE-89FAD9B2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866-6705-468A-BE3A-8D3660B8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9837-BBBC-4D95-9653-26D4F621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11B-8A0F-4A6D-82E0-69D834D2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C60-3BAF-49D0-85B1-CE4E9ECA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AAC-09C9-49D0-A888-E96E362C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C04-8F2E-40BD-A87E-9AC6986E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57B-C96B-4E63-98A4-E27F23D9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BD0-2AAF-4E09-8C7B-9CE4D89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F1A-6745-4AF7-8B73-6C5BD72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F76-27E6-4A47-8AAA-9CDF438D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CBE-F38D-4C1D-B590-2BFF41B5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00B-4DEF-4B39-AB04-19F4813F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759-D65F-44D0-9D38-725F3F0E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7FF-E010-4A14-8F75-833CB2DB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5D3-F938-4DAE-AFD2-C3453FA77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Racks - Cisco R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30M1P-4-8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914640" y="3556080"/>
            <a:ext cx="131472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30M1P-6-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498920" y="1327320"/>
            <a:ext cx="146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30M3P-6-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498920" y="1327320"/>
            <a:ext cx="146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60M3P-12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914640" y="3495600"/>
            <a:ext cx="1314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60M3P-12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916440" y="3497400"/>
            <a:ext cx="131112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60M3P-12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498920" y="1327320"/>
            <a:ext cx="146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30-32M1P-6-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498920" y="1327320"/>
            <a:ext cx="146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30-32M3P-12-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498920" y="1327320"/>
            <a:ext cx="1461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760920" y="888840"/>
            <a:ext cx="16221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 Front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743280" y="888840"/>
            <a:ext cx="16574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760920" y="888840"/>
            <a:ext cx="16221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 Rear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743280" y="888840"/>
            <a:ext cx="165744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2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760920" y="888840"/>
            <a:ext cx="16221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ACK2-UCS2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760920" y="888840"/>
            <a:ext cx="16221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P208-30M1P-4-8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916440" y="3557520"/>
            <a:ext cx="13111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Gary Klapel</cp:lastModifiedBy>
  <dcterms:modified xsi:type="dcterms:W3CDTF">2017-09-21T17:30:01Z</dcterms:modified>
  <cp:revision>5</cp:revision>
  <dc:subject/>
  <dc:title>Slide 1</dc:title>
</cp:coreProperties>
</file>